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145088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70360" y="947844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8693-FF84-44B0-B2B8-A5A5D7BDFC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B507-6F65-4830-92A3-CF16785C43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22F8-79F3-4296-8E68-7E6C77DDA6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F182-F142-45A5-B192-417A96D91B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01F0-CAD3-45FD-8E9F-FA9309D1D6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019A-92C0-4DA5-B6C3-EF719A7C02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5262-6ACE-4F75-A960-459535E8B09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7612-534E-41AE-AA5A-F410F50B3A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6FB4-9B68-479D-BA50-4F4B13F93A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F577-27C7-43F0-8DFC-B7801B65444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C23E-914A-416C-AE57-AF36E84A4D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0762-728F-44A6-9EFD-E98ECC4A79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47A-AA5F-4F32-AFA1-654E5982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9C7-3B25-44AE-820A-3589AD1B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3AF-F3F3-4F4A-B753-B987C192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42A-430C-456D-99CC-0977E173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A140-A32D-4655-BB48-F9415EB5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5D5F-A7C7-453C-B503-E98010D7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99B9-2629-4FFE-AF47-B8413524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A5E3-C3D3-42A8-AC58-0585151B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3C30-0C14-4572-BD02-5409CB8C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DA06-B6AE-4521-88EA-595448F5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A3A0-29F1-4000-8167-4804A5C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792-E66A-4802-B80A-859202B0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04FD-8085-4844-A416-76614A09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564D-E3F2-45FE-84E6-866BFFFE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ED87-72AF-4B91-B7C5-30B18C77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86F5-AFFB-4671-BD67-100E1121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C0F8-5585-4895-B2D1-64B7003E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EDB1-7050-4A93-B819-5CDA48AD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1A6F-6CFC-42C8-8DFE-F02EBA27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D6945-6EA7-44CC-A561-A402D3BC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48A6F-FD2F-4E3B-918F-6EC3BB49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2AF7-82C3-4E27-BD6D-929C50D9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7E0-5943-4EAA-B47E-74256240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8DC67-84B2-4BDC-93CD-3D1B013A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A7F0-1C1A-498F-9DAC-4680F808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8826-38AC-4EA3-AECA-FDB983A9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00D2B-874F-4DE4-BB07-A5D4BD9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F6B2-BF73-4591-A656-92EFE768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5168-6CC4-41F7-8FCA-B5C5AD87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B64B-1F02-4994-BE9B-2204DE6E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F52-5E02-43A3-9CA2-ACAC3AC5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9CD-E06B-4726-9641-1FA44A7E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87B-1B34-4AEE-B0C5-2995EFF9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162-7D08-49BD-B02A-4C2A7857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1C8-709C-471D-B596-82DD77A1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D84-83A9-4D8B-B42F-7ECDF343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E5BD-F07E-460B-9673-AE540D3DFC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84E3-CE6E-407A-B40A-C263A16AEE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6ECF-7CC6-4434-98A8-D4EB636288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33AE-4315-401A-9C84-243ED6BAE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5195-0493-4EBC-B13A-06BFD9F43C49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B958-C211-45BB-BDBA-26C601441415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7"/>
          <p:cNvSpPr/>
          <p:nvPr/>
        </p:nvSpPr>
        <p:spPr>
          <a:xfrm>
            <a:off x="468360" y="1130400"/>
            <a:ext cx="8280360" cy="32630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результаты исследования компетенций учителей математики,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ргей Владимирович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нчен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Центра националь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еждународных исследований качества образов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ого государственного бюджетного учрежде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Федеральный институт оценки качества образ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826920" y="1131840"/>
            <a:ext cx="756144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уровневой градации (одновременно с модернизацией профессионального стандарта педаг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еханизмов диагностики и профессиональной помощи на основе результатов оценки, в том числе, на основе адресного повышения квалифик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методик оценки психолого-педагогических компете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енно-профессиональное об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Дальнейши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>
            <a:off x="539640" y="2066760"/>
            <a:ext cx="820908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7"/>
          <p:cNvSpPr/>
          <p:nvPr/>
        </p:nvSpPr>
        <p:spPr>
          <a:xfrm>
            <a:off x="250920" y="195120"/>
            <a:ext cx="864216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Источники информации об уровне компетенций учителей.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Федера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"/>
          <p:cNvSpPr/>
          <p:nvPr/>
        </p:nvSpPr>
        <p:spPr>
          <a:xfrm>
            <a:off x="495144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135400" y="253512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сравнительны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8"/>
          <p:cNvSpPr/>
          <p:nvPr/>
        </p:nvSpPr>
        <p:spPr>
          <a:xfrm>
            <a:off x="207180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2451240" y="25351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0"/>
          <p:cNvSpPr/>
          <p:nvPr/>
        </p:nvSpPr>
        <p:spPr>
          <a:xfrm>
            <a:off x="3079800" y="379872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459240" y="38336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2"/>
          <p:cNvSpPr/>
          <p:nvPr/>
        </p:nvSpPr>
        <p:spPr>
          <a:xfrm>
            <a:off x="106380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1442880" y="1231920"/>
            <a:ext cx="16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4"/>
          <p:cNvSpPr/>
          <p:nvPr/>
        </p:nvSpPr>
        <p:spPr>
          <a:xfrm>
            <a:off x="401652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395960" y="12319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6"/>
          <p:cNvSpPr/>
          <p:nvPr/>
        </p:nvSpPr>
        <p:spPr>
          <a:xfrm>
            <a:off x="5940360" y="3798720"/>
            <a:ext cx="237672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105600" y="3808440"/>
            <a:ext cx="20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компетенций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7"/>
          <p:cNvSpPr/>
          <p:nvPr/>
        </p:nvSpPr>
        <p:spPr>
          <a:xfrm>
            <a:off x="250920" y="195120"/>
            <a:ext cx="8642160" cy="794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Разработка модели оценки компетенций учителей. 1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частии ассоциаций учителей истории, математики,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"/>
          <p:cNvSpPr/>
          <p:nvPr/>
        </p:nvSpPr>
        <p:spPr>
          <a:xfrm>
            <a:off x="1835280" y="130824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2214720" y="1343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российское исслед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учителя истор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015 г., 6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1835280" y="248616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2041560" y="25210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ое исследование компетенций учителей русского языка и математики (осень 2015 г., 2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1835280" y="3665520"/>
            <a:ext cx="5329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2016000" y="37004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е компетенций учителей русского языка, литературы и математики (весна-осень 2016 г., 20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1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ценка компетенций как часть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2944800" y="2316240"/>
            <a:ext cx="2930400" cy="142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С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855720" y="1382760"/>
            <a:ext cx="208908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ценка компет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468360" y="2682720"/>
            <a:ext cx="180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867280" y="1190520"/>
            <a:ext cx="25923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профессиональной помощи и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732720" y="2546280"/>
            <a:ext cx="230328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реды профессионального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755640" y="4032360"/>
            <a:ext cx="20876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стим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6389640" y="4226040"/>
            <a:ext cx="165744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право 1"/>
          <p:cNvSpPr/>
          <p:nvPr/>
        </p:nvSpPr>
        <p:spPr>
          <a:xfrm>
            <a:off x="2427120" y="2827440"/>
            <a:ext cx="344520" cy="42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право 10"/>
          <p:cNvSpPr/>
          <p:nvPr/>
        </p:nvSpPr>
        <p:spPr>
          <a:xfrm rot="2952600">
            <a:off x="3095640" y="1670040"/>
            <a:ext cx="649440" cy="4269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2"/>
          <p:cNvSpPr/>
          <p:nvPr/>
        </p:nvSpPr>
        <p:spPr>
          <a:xfrm rot="18913200">
            <a:off x="3000240" y="3889080"/>
            <a:ext cx="649440" cy="4284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право 13"/>
          <p:cNvSpPr/>
          <p:nvPr/>
        </p:nvSpPr>
        <p:spPr>
          <a:xfrm rot="13497000">
            <a:off x="5647680" y="373032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14"/>
          <p:cNvSpPr/>
          <p:nvPr/>
        </p:nvSpPr>
        <p:spPr>
          <a:xfrm rot="10800000">
            <a:off x="6192720" y="2833200"/>
            <a:ext cx="395280" cy="427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право 15"/>
          <p:cNvSpPr/>
          <p:nvPr/>
        </p:nvSpPr>
        <p:spPr>
          <a:xfrm rot="8266800">
            <a:off x="5093640" y="166068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7"/>
          <p:cNvSpPr/>
          <p:nvPr/>
        </p:nvSpPr>
        <p:spPr>
          <a:xfrm>
            <a:off x="755640" y="1303200"/>
            <a:ext cx="7632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ая подготов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ка преподавания, в том числе, объективное оценивание уровня подготовки обучаю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о-педагогически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ланируется апробировать в 2017 г. различные формы оценки, в том числе, оценку реальной работы учителя на уроке, которая может быть реализована на уровне О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620640" y="371520"/>
            <a:ext cx="806472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сновные группы компетенций (в планируемой модели), 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в соответствии с Профессиональным стандартом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24000" y="11916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mbria"/>
              </a:rPr>
              <a:t>Исследование компетенций учителей, апрель-май 2016 года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Диаграмма 1" descr=""/>
          <p:cNvPicPr/>
          <p:nvPr/>
        </p:nvPicPr>
        <p:blipFill>
          <a:blip r:embed="rId1"/>
          <a:srcRect l="0" t="0" r="-38" b="0"/>
          <a:stretch/>
        </p:blipFill>
        <p:spPr>
          <a:xfrm>
            <a:off x="0" y="858960"/>
            <a:ext cx="3995640" cy="2154240"/>
          </a:xfrm>
          <a:prstGeom prst="rect">
            <a:avLst/>
          </a:prstGeom>
          <a:ln w="0">
            <a:noFill/>
          </a:ln>
        </p:spPr>
      </p:pic>
      <p:pic>
        <p:nvPicPr>
          <p:cNvPr id="169" name="Диаграмма 1" descr=""/>
          <p:cNvPicPr/>
          <p:nvPr/>
        </p:nvPicPr>
        <p:blipFill>
          <a:blip r:embed="rId2"/>
          <a:stretch/>
        </p:blipFill>
        <p:spPr>
          <a:xfrm>
            <a:off x="4427640" y="773280"/>
            <a:ext cx="4392360" cy="2323800"/>
          </a:xfrm>
          <a:prstGeom prst="rect">
            <a:avLst/>
          </a:prstGeom>
          <a:ln w="0">
            <a:noFill/>
          </a:ln>
        </p:spPr>
      </p:pic>
      <p:pic>
        <p:nvPicPr>
          <p:cNvPr id="170" name="Диаграмма 1" descr=""/>
          <p:cNvPicPr/>
          <p:nvPr/>
        </p:nvPicPr>
        <p:blipFill>
          <a:blip r:embed="rId3"/>
          <a:srcRect l="-195" t="-4155" r="-816" b="-3377"/>
          <a:stretch/>
        </p:blipFill>
        <p:spPr>
          <a:xfrm>
            <a:off x="2195640" y="3103560"/>
            <a:ext cx="4578120" cy="189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395280" y="5076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едметная компет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162160" y="915840"/>
            <a:ext cx="1911240" cy="473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649760" y="933480"/>
            <a:ext cx="32004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,2 %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математик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правились с зад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95640" y="99540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382680" y="1754280"/>
            <a:ext cx="407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аком предложении выделенное слово пишется слит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4643280" y="1727280"/>
            <a:ext cx="4249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7,2 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ителей русского языка выбрали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Вот уже несколько минут Иван напряженно всматривался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дал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надеясь разглядеть на горизонте пароходный д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439560" y="3193920"/>
            <a:ext cx="396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а цитата из письм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девушка сама неглупая предпочитает дурака умному человеку; и этот человек, разумеется, в противуречии с обществом его окружающим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те произведение, о котором идет речь и его ав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4668840" y="3144960"/>
            <a:ext cx="374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,3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литературы не узнали комедию «Горе от ума» по приведенной цита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1042920" y="1417680"/>
            <a:ext cx="676908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каждому из предметов значительная доля учителей показала относительно невысокие результаты выполнения стандартных учебных за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констатировать достаточно низкий уровень методических компетенций учителей, неумение объяснить свои действия, спланировать учебную работу в соответствии с конкретной зада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влен недостаточный уровень владения приемами объективного стандартизированного оценивания результатов обучения, что может препятствовать эффективному выполнению учителями их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б уровне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179280" y="843120"/>
            <a:ext cx="864072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дифференцировать уровень компетенций учителей по всем заявленным блокам, однако имеет свои ограничения: не все виды компетенций можно оценить зада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ные в исследовании подходы могут применяться как для оценки компетенций учителей в рамках аттестационных процедур, так и для диагностики с целью организации адресного повышения квалификации и оказания профессиональной помощи учителю на основе результатов выполнения им диагност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обеспечить единые для всех регионов подходы к оценке уровня квалификации уч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 развитие апробированного подхода в направлении введения уровневой градации результатов диагностики одновременно с модернизацией профессионального стандарта педаг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обеспечить максимальную вариативность заданий, основанных на педагогических ситуациях, чтобы учитель имел возможность проявить свои компетенции в ситуации, близкой к его практической раб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рассмотреть вопрос расширения спектра оцениваемых компетенций путем включения оценки психолого-педагогических компетенций учителя, осуществляемой, в том числе, с привлечением региональных методических объединений или на школьном уров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 модели оценки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2:04:26Z</dcterms:created>
  <dc:creator>danilov@halfbudget.com</dc:creator>
  <dc:description/>
  <dc:language>en-US</dc:language>
  <cp:lastModifiedBy>Сергей Станченко</cp:lastModifiedBy>
  <cp:lastPrinted>2014-06-23T12:14:10Z</cp:lastPrinted>
  <dcterms:modified xsi:type="dcterms:W3CDTF">2016-10-28T08:17:18Z</dcterms:modified>
  <cp:revision>657</cp:revision>
  <dc:subject/>
  <dc:title>Презентация PowerPoint</dc:title>
</cp:coreProperties>
</file>