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0920" cy="369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09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384984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2E445-72F9-4237-9667-9DE82143B44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3849840" y="9379080"/>
            <a:ext cx="2938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F6629-69A2-42E3-9C25-A67E834E51D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DD25E-9DC4-4966-BB1D-3D5AB35815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D8A6B-FE8E-45E8-9A9D-CEFC98A5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31EB7-7123-4E06-A188-2DBD54DB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A174D-37F4-4F14-9860-BAA229D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60AEB-8C6A-4AFD-A0F6-A750EAE0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BABA0-9E89-49B4-98E9-64842CE4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364C1-6459-4650-A998-F9CFAD34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EEB15-CE29-47CF-ACA7-AEF884B9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D406D-EBDF-4485-8870-126D6AAA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994EB-8D5B-47F0-A69E-ECA347F1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FC490-55EA-4C20-8A1B-F8435221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8B6A3-D7AB-4BB9-A768-57497AC3DC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A5B3-753B-4E06-A47D-4F6200071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2530-4F1A-48B2-BECD-9E7CE6B9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28A8-3D7F-45D9-9F9A-7D1464C0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6B64-DA60-49C9-A0C8-EACA35BD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0A32-9320-4E22-8215-CD4B3B6B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D143-F715-4758-82FF-86852AA6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4C15-9AE7-41FF-B575-AE4A264B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9E21-EF89-4E2C-871C-DAC75E4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5B47-7B07-423D-A559-242FB831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7232-53AB-46F5-AB0C-3314867C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8D77-8820-4ACD-BB41-93A5DCC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2E90-899F-4455-9D93-10DCB6B550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82DE3-33A9-4192-92C6-4BF49055B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EB59F-2252-4C39-ACBF-E2C2C6F6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AF121-1AF1-48FA-9946-46C55FFF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7287B-6992-4A33-81FB-A344163F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87395-4C07-4969-8347-55114E08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51369-F111-4F6C-A926-5F52C563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88D81-0834-40F8-B81A-EE529A88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5E9D9-7412-4F43-A014-A3A61D95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7D482-3572-4524-A598-3B6D1384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0D4CC-726D-439F-A4A9-E15A81FF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8067B-5F74-4DE3-96E9-6F8032B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72B3D-E2F8-4EAF-AFF8-F71FD00CAD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4A5BA-955F-4340-9E30-708009354B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84C34-4A41-4F14-BD33-35491260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6BFD5-1388-49FD-A4A6-EF747A10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CF98F-56F1-4765-AD6C-B1941F56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F46E6B-5291-48AF-A79A-62F5BBE2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C951C-EB12-4DB7-9024-7E918E08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20A39-CDC4-4304-BCE3-4786F949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61F45-6B3B-4AB6-898A-74D9A435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505942-95FF-411E-AB5D-E0D67617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C7394-FB64-47E3-976E-D28D2D61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3D4CF-CD68-4E4D-A32C-40EAD51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C5BC0-066B-4D8B-88B1-6954C4F61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24E1-1694-40FE-A023-0BAB5B8DB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369A-E221-4976-B814-09D68E86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F0C02-1091-463E-ACBD-8ACE9263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3A78-E21B-4508-8147-4DC2D1D1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0678-05F0-46F2-BD8E-67166C28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3F75-B910-47A4-A15E-C4ED17A3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6ECC7-8D2B-4F23-A4B8-36727903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FFAF-39E4-43B4-8A23-10A4A917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1E87-D419-43D4-9D73-4E25FACB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EAD6-0781-4CB4-A379-68A3A268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F97A-B3A5-45E5-9267-A194713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EE0F-43AF-44FF-8EE7-3E0467ABAF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E96A6-B770-42D8-9E93-FE1010B96E2C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FD5DE-0E92-45D5-BB71-483F43980027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AE1CF-E356-442E-BBD3-6FFAF4B77148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EB8BC-B1CA-4DB0-97D6-0B7126FAF17F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288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0" y="3867120"/>
            <a:ext cx="9144000" cy="29908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9144000" h="2990850">
                <a:moveTo>
                  <a:pt x="0" y="0"/>
                </a:moveTo>
                <a:lnTo>
                  <a:pt x="25400" y="0"/>
                </a:lnTo>
                <a:lnTo>
                  <a:pt x="25400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0" y="0"/>
            <a:ext cx="9144000" cy="38671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867120"/>
              <a:gd name="textAreaBottom" fmla="*/ 3867480 h 3867120"/>
            </a:gdLst>
            <a:ahLst/>
            <a:rect l="textAreaLeft" t="textAreaTop" r="textAreaRight" b="textAreaBottom"/>
            <a:pathLst>
              <a:path w="9144000" h="3867150">
                <a:moveTo>
                  <a:pt x="0" y="0"/>
                </a:moveTo>
                <a:lnTo>
                  <a:pt x="25400" y="0"/>
                </a:lnTo>
                <a:lnTo>
                  <a:pt x="25400" y="10741"/>
                </a:lnTo>
                <a:lnTo>
                  <a:pt x="0" y="107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2652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3640" y="2172960"/>
            <a:ext cx="59580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22120" y="4606560"/>
            <a:ext cx="59626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1CE56-D0DB-4C3D-89B1-2496B7DDF104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844BA-7237-4317-9F8F-B97B8A24F57B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E6ABE-4FDF-416B-BAB8-803DB8A62DFC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D228A-2877-4B2B-A7E9-A2DA49C710B2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9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17F20-68CF-4646-943A-EF157544F2BC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9922E-4D23-4D1B-AF28-A473A2AFA23D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0F3D7-CED8-4DA3-B94B-9DFA4AE2AF7E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9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EC061-0061-4187-9D8C-BA6544FC4289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 подходах к разработке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всероссийских проверочных работ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 пяти предметам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для обучающихся 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484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Демидова М.Ю., руководитель Центра педагогических измерений ФГБ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36920" y="5084640"/>
            <a:ext cx="453528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4000" y="1563840"/>
            <a:ext cx="444636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4211640" y="3111480"/>
            <a:ext cx="4481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28160"/>
            <a:ext cx="7861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ы научного позн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3640" y="1273320"/>
            <a:ext cx="3961080" cy="53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24000" y="4659480"/>
            <a:ext cx="443232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Прямоугольник 2"/>
          <p:cNvSpPr/>
          <p:nvPr/>
        </p:nvSpPr>
        <p:spPr>
          <a:xfrm>
            <a:off x="466560" y="1557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онимание фундаментальных опы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амостоятельное планирование исследов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контекст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55904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481640" y="2897280"/>
            <a:ext cx="4576680" cy="7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4500720" y="3943440"/>
            <a:ext cx="4557600" cy="22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контролируют степень овладения знаниями и умениями базового курса биологии и проверяют сформированность у выпускников практико-ориентированной биолог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азделы курса биологии: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Биология как наука. Методы научного познания», «Клетка», «Организм», «Вид», «Экосистемы», «Организм человека и ег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своение понятийного аппарата курса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методологическими ум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менение знаний при объяснении биологических процессов, явлений, а также решении элементарных биолог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умениями по работе с информацией биологического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348000" y="3906720"/>
            <a:ext cx="5602320" cy="27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79280" y="1457280"/>
            <a:ext cx="534348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ктико-ориентированное содержание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788000" y="1550880"/>
            <a:ext cx="4130640" cy="51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31920" y="3651120"/>
            <a:ext cx="429408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700280"/>
            <a:ext cx="7994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ключены задания по содержательным блокам: «Теоретические основы химии», «Неорганическая химия», «Органическая химия», «Методы познания в хим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кратким ответом проверяют на базовом уровне усвоение большинства элементов содержания, изучаемых в рамках основных тем курса химии 10-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развернутым ответом проверяют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ставлять уравнения реакций, подтверждающих свойства веществ и/или взаимосвязь различных классов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ъяснять обусловленность свойств и способов получения веществ их составом и строе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ычислять массу или объем веществ, участвующих в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Источники географ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Миров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родопользование и гео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егионы и 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Географ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 работе провер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нание географических явлений и процессов в геосферах и географических особенностей природы населения и хозяйства отдельных террито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анализировать географическую информацию, представленную в различных форм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пособность применять полученные в школе географические знания для объяснения различных событий и явлений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я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убликация документов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, регламентирующих разработку ВПР-11 по пяти предме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исания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дификаторы проверяемых элементов содержания и требований к уровню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разцы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нец ноября 2016 года, сайт ФГБНУ «ФИ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 ВПР не требует организации специальной подготов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6920" y="2637000"/>
            <a:ext cx="76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18920" y="7560"/>
            <a:ext cx="67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Р-11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13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Распоряжение Рособрнадзора №2322-05 от 30.08.201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«Об утверждении графиков проведения мероприятий, направленных на исследование качества образования на 2016-2017 г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График проведения всероссийских проверочных работ в 11 клас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76360" y="3789360"/>
          <a:ext cx="6095880" cy="2224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я 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дура подготовки вариантов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проекта кодификатора, описания всероссийской проверочной работы по предмету и образца вариа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фокус-групп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профессиональном сообществе, экспертиза документов, регламентирующих разработку ВП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Публикация описаний, кодификаторов и образцов вариа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вариантов ВПР по 5 предметам, проведение содержательных и тестологических экспертиз. Подготовка оригинал-мак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1. Назначение В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Р-11 предназначена для итоговой оценки учебной подготовки выпускников, изучавших школьный курс данного предмета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 базовом уровне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2. Документ, определяющий содержание В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Федеральный компонент государственного образовательного стандарта среднего (полного) общего образования по предмету, базовый уровень (приказ Минобразования России от 05.03.2004 № 108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3. Время выполнения работы – 9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4. Уровни сложности зад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базовый уровень  (порядка 60% от максимального ба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вышенный уровень (порядка 40% от максимального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5. Формы заданий – с кратким и развернутым ответом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используются модели, не предназначенные для бланковой технологии). Использование контекстных заданий и дополнительных справочных 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6.  Содержание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наиболее значимые элементы содержания всех разделов предметного ку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7. Количество заданий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до 20 заданий в вари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412640"/>
            <a:ext cx="799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школьниками базовыми историческими зна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ыт применения историко-культурного подхода к оценке социаль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применять исторические знания для осмысления сущности обществен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искать, анализировать, сопоставлять и оценивать содержащуюся в различных источниках информацию о событиях и явлениях прошлого</a:t>
            </a:r>
            <a:r>
              <a:rPr b="0" lang="ru-RU" sz="16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15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</a:rPr>
              <a:t>история России с древнейших времён до наших дней и истории родного края.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(Знания по всеобщей истории проверяются в работе только в контексте истории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знание учащимися истории,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и культура родного края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53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тивность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75280" cy="545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483920"/>
            <a:ext cx="799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ять групп  заданий, оценивающих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онимать смысл изученных физических понятий, величин, законов, мод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писывать и объяснять физические явления и свойства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бъяснять устройство и принцип действия технических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Делать выводы на основе экспериментальных данных, планировать ис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Воспринимать и оценивать информацию физического содержания (работа с текс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роверка фундаментальных принципов и законов, наиболее значимых элементов содержания из всех разделов курса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6-10-28T05:16:37Z</dcterms:modified>
  <cp:revision>527</cp:revision>
  <dc:subject/>
  <dc:title>Презентация PowerPoint</dc:title>
</cp:coreProperties>
</file>